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80F6-2790-432D-9917-B0C9E289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523C-8AB8-428B-89A7-9F2A1720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E38E-5A14-46D0-BE2D-DCF6EA6A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28CA-97D5-4A9D-91A5-E0F57C55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865E-5EBD-4E73-8E18-AD68D9E0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C59A-C7DB-4BD0-BDA7-7F387D02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D08B-1D88-4E82-9BD8-AEAF56AB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6928-CB06-4D8E-9B1C-06914D82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B080-E259-488C-86EF-E018112D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389A-6C26-4FF7-9B3F-69FE42CB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BC43-0D25-432B-B90B-AD06934C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E55F-D4D7-441E-A405-3309806E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E38C-BB84-4E46-A458-6B6F55238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b/Wikilabrador_jardin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upload.wikimedia.org/wikipedia/commons/9/9b/Domestic_cat_cropped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upload.wikimedia.org/wikipedia/commons/8/80/Yellow_finch_1.jpg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upload.wikimedia.org/wikipedia/commons/7/77/Guinea_1.jpg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3/Hamster_Ruso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upload.wikimedia.org/wikipedia/commons/c/c3/Phelsuma_l._laticauda.jpg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upload.wikimedia.org/wikipedia/commons/b/bd/Apodemus_sylvaticus_bosmuis.jpg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upload.wikimedia.org/wikipedia/commons/6/67/Rat_diabetic.jpg" TargetMode="Externa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e/Kini_iguana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upload.wikimedia.org/wikipedia/commons/3/34/Florida_Box_Turtle_Digon3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upload.wikimedia.org/wikipedia/commons/7/70/Sylvilagus_floridanus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en.wikipedia.org/wiki/File:HermitCrabs.jpg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File:Wikilabrador jard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0"/>
            <a:ext cx="4114800" cy="3362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File:Domestic cat croppe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200" y="3460680"/>
            <a:ext cx="4281480" cy="3397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File:Yellow finch 1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8320" y="0"/>
            <a:ext cx="4190760" cy="3344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File:Guinea 1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819680" y="3614760"/>
            <a:ext cx="43243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File:Hamster Rus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File:Phelsuma l. laticaud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0"/>
            <a:ext cx="4267080" cy="3475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File:Apodemus sylvaticus bosmuis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581280"/>
            <a:ext cx="4495680" cy="327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File:Rat diabetic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72000" y="3505320"/>
            <a:ext cx="4572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File:Kini iguan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763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File:Florida Box Turtle Digon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304920"/>
            <a:ext cx="4343400" cy="2894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File:Sylvilagus floridanus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3390840"/>
            <a:ext cx="4114800" cy="3467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24280" y="358128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3733560" cy="3422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File:Scarlet Macaw.jpg"/>
          <p:cNvPicPr/>
          <p:nvPr/>
        </p:nvPicPr>
        <p:blipFill>
          <a:blip r:embed="rId2"/>
          <a:stretch/>
        </p:blipFill>
        <p:spPr>
          <a:xfrm>
            <a:off x="114480" y="3886200"/>
            <a:ext cx="4381200" cy="2278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File:Poecilotheria Regalis.jpg"/>
          <p:cNvPicPr/>
          <p:nvPr/>
        </p:nvPicPr>
        <p:blipFill>
          <a:blip r:embed="rId3"/>
          <a:stretch/>
        </p:blipFill>
        <p:spPr>
          <a:xfrm>
            <a:off x="4724280" y="144360"/>
            <a:ext cx="4343400" cy="3208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File:Thamnophis elegans terrestris (1).jpg"/>
          <p:cNvPicPr/>
          <p:nvPr/>
        </p:nvPicPr>
        <p:blipFill>
          <a:blip r:embed="rId4"/>
          <a:stretch/>
        </p:blipFill>
        <p:spPr>
          <a:xfrm>
            <a:off x="4572000" y="3809880"/>
            <a:ext cx="457200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48320" y="-152280"/>
            <a:ext cx="4495680" cy="3470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-76320" y="3505320"/>
            <a:ext cx="4572000" cy="3117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648320" y="3886200"/>
            <a:ext cx="441936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22790</cp:lastModifiedBy>
  <dcterms:modified xsi:type="dcterms:W3CDTF">2008-12-19T21:33:15Z</dcterms:modified>
  <cp:revision>9</cp:revision>
  <dc:subject/>
  <dc:title>Slide 1</dc:title>
</cp:coreProperties>
</file>